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B99-B9DA-41FD-AF41-59F2D690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62C-5CC6-41F6-AC31-884653BE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9B0-FDBB-4EE3-BB8E-A9F0FCAD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16C-FC72-42AF-A1C3-F978A952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24E-B46F-4869-BCB6-87C6A557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C70-8100-4438-BA18-913EF6AA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841-4E03-4A59-A946-45A0562E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CB1-05ED-4DB7-AA92-B122DC10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EC3-4BED-4B9D-ADAA-7F68FC6A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A21-9D5A-4E59-939C-1033E4A3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C4E-F398-4306-A550-B5D45112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AAE-9E92-49FA-BB9D-2ACC857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9DEE-175C-4279-9D08-48E94C19B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14600" y="685800"/>
            <a:ext cx="6400800" cy="5753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19320" y="380880"/>
            <a:ext cx="5695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969696"/>
                </a:solidFill>
                <a:latin typeface="Arial Black"/>
              </a:rPr>
              <a:t>Darkness gives no fear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359080"/>
            <a:ext cx="79250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When the arguments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The room fills up with sm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Ashes are the leftovers from the burning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Running from the blood red f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Into the mist of obscure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To give up, escape, forever hide a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The narrow path is full of angui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66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33520" y="533520"/>
            <a:ext cx="4762440" cy="5600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2720160"/>
            <a:ext cx="84582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As one begins to h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Away from all the misfortune, the to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The darkness gives no 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When the pain drips down as t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Nightfall gives some unimaginable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Allowing our mind to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The lightning bugs brighten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866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0600" y="254160"/>
            <a:ext cx="4819680" cy="6349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575720"/>
            <a:ext cx="830556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As we discover the path has ended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Gone as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Time to slow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Meet a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Allow the ached heart a while to m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Before the morning d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Breaks into dusk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866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22:51:32Z</dcterms:created>
  <dc:creator>Current User</dc:creator>
  <dc:description/>
  <dc:language>en-US</dc:language>
  <cp:lastModifiedBy>Current User</cp:lastModifiedBy>
  <dcterms:modified xsi:type="dcterms:W3CDTF">2008-02-28T02:14:43Z</dcterms:modified>
  <cp:revision>7</cp:revision>
  <dc:subject/>
  <dc:title>Slide 1</dc:title>
</cp:coreProperties>
</file>